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Taryn Gilles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Ravie"/>
              </a:rPr>
              <a:t>Do Boys See Different Optical Allusions Then Girls </a:t>
            </a:r>
            <a:endParaRPr b="0" lang="en-US" sz="40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By Taryn Gillespie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Boys saw more of normal illusions. On most of the boys answers their numbers were even like 50% on both. I think that the boys saw the illusions more evenly then the girls!  My hypothesis was incorrect.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Work Cited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Efirig, David E. "optical illutions." </a:t>
            </a:r>
            <a:r>
              <a:rPr b="0" i="1" lang="en-US" sz="3200" spc="-1" strike="noStrike">
                <a:solidFill>
                  <a:srgbClr val="ff0066"/>
                </a:solidFill>
                <a:latin typeface="Ravie"/>
              </a:rPr>
              <a:t>world book online</a:t>
            </a: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. Web. 12 Jan. 2011. &lt;http://www.worldbookonline.com/pl/referencecenter/article?id=ar404180&amp;st=illusions&gt;.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Problem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What effect does gender have on how optical illusions are seen?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Hypothesi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I predict that they will see different things in the illusions because boys brains arent fully developed until they are about 30!   Girls brain develop in there teens! 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Material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Test subjects-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Paper for subjects to write answers on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Pencils for the subject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Smart board to show the slideshow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Computer to make the slideshow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Class room to do the experiment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Procedure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Make slideshow </a:t>
            </a: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(Optical Illusions) 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Get room ready 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(including smart board) </a:t>
            </a:r>
            <a:endParaRPr b="0" lang="en-US" sz="20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Find test subjects 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(8</a:t>
            </a:r>
            <a:r>
              <a:rPr b="0" lang="en-US" sz="2000" spc="-1" strike="noStrike" baseline="30000">
                <a:solidFill>
                  <a:srgbClr val="ff0066"/>
                </a:solidFill>
                <a:latin typeface="Ravie"/>
              </a:rPr>
              <a:t>th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 Grade Class)</a:t>
            </a:r>
            <a:endParaRPr b="0" lang="en-US" sz="20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17 Girl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22 Boy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Sit them down and explain the testing 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Record their answer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Make Table of Result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auses of error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People could look at it too long and not right down the first thing they see!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Result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Girls Table &amp; Boys Table on Next two slides.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610120" cy="6400440"/>
        </p:xfrm>
        <a:graphic>
          <a:graphicData uri="http://schemas.openxmlformats.org/drawingml/2006/table">
            <a:tbl>
              <a:tblPr/>
              <a:tblGrid>
                <a:gridCol w="1215360"/>
                <a:gridCol w="1431360"/>
                <a:gridCol w="5963400"/>
              </a:tblGrid>
              <a:tr h="72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IRL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enter + Sign?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The Objects Seen in the Picture. 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hand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ld people, cu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indse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4 THINGS SEEN: guys a woman, light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ecky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4 THINGS SEEN:</a:t>
                      </a:r>
                      <a:r>
                        <a:rPr b="0" lang="en-US" sz="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2 old people, person in girls face, I person guitar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ity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andra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ayli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mexicans, a man leaning on a wall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r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mexicans, old people, woman in doorway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achel W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mexican woman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ynss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ight, 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achel V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</a:t>
                      </a:r>
                      <a:r>
                        <a:rPr b="0" lang="en-US" sz="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old people, mexicans, woman in doorway, cup 6</a:t>
                      </a:r>
                      <a:endParaRPr b="0" lang="en-US" sz="8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ar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</a:t>
                      </a:r>
                      <a:r>
                        <a:rPr b="0" lang="en-US" sz="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old people, mexicans, vase, a person dancing at the wall 6</a:t>
                      </a:r>
                      <a:endParaRPr b="0" lang="en-US" sz="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helse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a vase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estin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uli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vase, mexicans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nd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old people, cup, mexicans, girl in ear 6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ayl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c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endr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and girl in ear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228600"/>
          <a:ext cx="8533800" cy="5866920"/>
        </p:xfrm>
        <a:graphic>
          <a:graphicData uri="http://schemas.openxmlformats.org/drawingml/2006/table">
            <a:tbl>
              <a:tblPr/>
              <a:tblGrid>
                <a:gridCol w="1234800"/>
                <a:gridCol w="1513440"/>
                <a:gridCol w="5785560"/>
              </a:tblGrid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yl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mexicans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Zan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alla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five faces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yd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uc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ight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lex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c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obby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vase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k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amp 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has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 old people, mexican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u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mexicans, lam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cott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Mich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light, cup, statue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od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e people, glass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mero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wine glass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leb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mexican man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i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lady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ndrew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cup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I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cu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rac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girl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e people, mexican man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enr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d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girl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12:20Z</dcterms:created>
  <dc:creator>USD376</dc:creator>
  <dc:description/>
  <dc:language>en-US</dc:language>
  <cp:lastModifiedBy>USD376</cp:lastModifiedBy>
  <dcterms:modified xsi:type="dcterms:W3CDTF">2011-01-26T16:15:38Z</dcterms:modified>
  <cp:revision>9</cp:revision>
  <dc:subject/>
  <dc:title>Do Boys See Different Optical Allusions Then Girls </dc:title>
</cp:coreProperties>
</file>